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460-A413-4300-AB9E-F986E3E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D80-E39C-4AB8-B353-6944CA6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55A-25C2-4ECF-97E7-1665BBD9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7F0-13D5-4648-ACC3-67D83FEF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9C5-6749-4DF6-85D8-5D9C9AA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094-5B10-485F-AF9F-3E68F0D8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227-D068-46F6-9B5D-85E88273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A82-16D1-4EEE-B9BB-7B9F14B3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9BE-6705-4BED-988E-A21725A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F52-6E4F-4CF3-ACCF-94A6CC18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AFB-41C6-4204-9000-44C58138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332-AB1C-40C2-B8F6-F0FD6BE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BB05-6A00-433B-91C1-AC5376C7E03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809928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ere is there mal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The India, South America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Spain, France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The USA, Portugal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at are the symp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Laughter and high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Fever, chills, sweating and heada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Hot and f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ura S. C, Zaira, Sandra and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2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60720" y="179280"/>
            <a:ext cx="395928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6166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Symptom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laria can occur despite taking anti-malarial drugs and symptoms of malaria infection usually occur within 9 to 14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340000" y="378000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360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reatmen depends on the severity of the infection, the patient´s age, inmune status, the pattern of antimalarial drug supceptibility and the cost and availability of such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419640" y="-360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322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reatmen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160720" y="3780000"/>
            <a:ext cx="521964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0" y="1792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Where malaria i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79640" y="2160720"/>
            <a:ext cx="809928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60720" y="72072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Prevention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You should do everything it can to prevent mosquito bites. If you can, sleep in a room with screens on the windows and doors. Use a protective mosquito on her bed. At dusk, wear lightcoloured pants and shirts with long slee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419640" y="539640"/>
            <a:ext cx="3600360" cy="1800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What is malaria?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laria is a disease caused by the parasite Plasmodium. The symptoms are varied, starting with fever 8 to 30 days after infection, accompanied or not, headache, muscle aches, diarrhea, weakness and c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79640" y="4319640"/>
            <a:ext cx="46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59640" y="378000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at is mala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A disease caused by plasmo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A vir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A common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ow do you avoid the mosquito sp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Taking a p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Drinking a glas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Sleeping with mosquito nets on windows and do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hat does the treatment depend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) As dark as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) how bad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) If you it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1:18:01Z</dcterms:created>
  <dc:creator/>
  <dc:description/>
  <dc:language>en-US</dc:language>
  <cp:lastModifiedBy/>
  <dcterms:modified xsi:type="dcterms:W3CDTF">2010-09-29T11:40:59Z</dcterms:modified>
  <cp:revision>7</cp:revision>
  <dc:subject/>
  <dc:title/>
</cp:coreProperties>
</file>